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gif" ContentType="image/gif"/>
  <Override PartName="/ppt/media/image12.wmf" ContentType="image/x-wmf"/>
  <Override PartName="/ppt/media/image13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D85D-6C92-466C-A3B8-1E6BDE58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C04D-B15D-4AC6-B41E-D64983B3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B22-6584-4CCC-8323-B22EC9E46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2344-DF12-45F9-84C5-DFA7E8E064D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8CBC-EE27-408B-9179-30E2D1684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FA69-39E6-41E2-86BE-BCAFB18E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379-B1DD-4015-B24D-4B0974727E3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BBB7-7763-46F4-967B-8B46B6CE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7FB4-F85B-45BE-B5AE-AFF80EA3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E2F-A852-4AAA-ABC6-BAFF0444E89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BA63-A9A9-4A51-8423-B811E30E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2D1-BA5C-4FBC-A7FD-716074547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111-C436-4D56-A646-ADE79928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C4E-B145-47F3-AEB2-8C93B13D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38B6-BC26-47A6-BE6E-CB693A57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3792-A9B0-491A-82A6-647A2F80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9EC-4379-4B93-A35A-53ECE42D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769-0E9E-40EE-9345-0784E3DA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30CC-02C0-41CC-9B80-897F6D8C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47C5-FF67-4F71-B9C5-308CCDAB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5C4F-DBF0-4A71-BAC2-7214EFF3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0BD-0B8E-49BA-A9CA-6A36A25F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53F6-7420-4329-8680-7417905B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738-845E-4942-BD74-EE885D77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2546-857D-403B-85B8-0B1CF3C4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0E3-82A9-4D5D-BE24-DAB00BDE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98D8-2986-4532-A3DA-D7A4519D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3FA-D5CF-404D-A94C-87F0E930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7A4-0B5A-4F9D-BB17-D172F117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29D-C526-4818-8031-4B49B22F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7C09-94FD-4573-BB00-23F1E984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B160-C2FD-47BE-9964-42EC553E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359A-0874-4436-87A7-58402D79F8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925E-4C50-46A6-B4C0-78B93566A68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B5A3-C228-411C-A6D3-E55CB3E9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D5F-2F2C-45D1-816C-5A037BA3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DDE-9186-4F1D-B00C-A0E7C346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3BF-64FC-4B33-99BD-79048C4D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9E6-35D8-4770-918C-E65A99C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3A0-894E-4B9F-99FF-68C7D12D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A6D-C900-453B-8F34-A272F2FB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027-1772-4E6D-BF32-7FB56785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D63-1296-4CA4-B35F-04CEFFEC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D883-C823-498F-BAA4-2028E4A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D7AC-13CF-4E0A-A329-70A446F0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B00-FE83-4B73-981E-FE9868E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680D-E58E-4362-8BBC-5DEF6085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5D2F-DE27-434D-80A5-40FD18C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F6A-E42C-4C38-8068-39CBD27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D4C-68B2-4E25-8386-4BED85D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0E8-C833-49BD-8747-F22330A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265-B6F8-44E4-BA50-A1EEE8F5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302B-0F3F-4A3C-AAE1-F6EF69E5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A514-4958-460D-A7CF-750495C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694-918D-4579-B2E2-7C7A236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5B2-939F-483F-841F-F00DA338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5AC-85BA-4556-9BB0-E0436B4E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0BE-4EE5-4F17-B207-0EB6969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3DA-1D33-4233-8F68-130300A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066-E1A5-46DA-A44A-69FB26E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418-ECD9-494A-A5B3-42DE0DA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7750-7E9D-47D0-9C59-993BC505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-Ha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Chemistry: Chapter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6A7781A-5F57-4536-B5CF-5E68C0F0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370160" y="1447920"/>
            <a:ext cx="65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292520" y="639144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:\My Documents\backUP racunar fakultet\My Documents\skola kin kat pds\kinetika tos 1\neka predavanja 2006\laboratorio[1].gif"/>
          <p:cNvPicPr/>
          <p:nvPr/>
        </p:nvPicPr>
        <p:blipFill>
          <a:blip r:embed="rId1"/>
          <a:stretch/>
        </p:blipFill>
        <p:spPr>
          <a:xfrm>
            <a:off x="3490920" y="2809800"/>
            <a:ext cx="2162160" cy="1238400"/>
          </a:xfrm>
          <a:prstGeom prst="rect">
            <a:avLst/>
          </a:prstGeom>
          <a:ln w="0">
            <a:noFill/>
          </a:ln>
        </p:spPr>
      </p:pic>
      <p:sp>
        <p:nvSpPr>
          <p:cNvPr id="93" name="Subtitle 2"/>
          <p:cNvSpPr/>
          <p:nvPr/>
        </p:nvSpPr>
        <p:spPr>
          <a:xfrm>
            <a:off x="1484280" y="433080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дар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ра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чествуј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гују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игра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елементар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спориј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оји укључује више ступњев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ов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лучујућ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уп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спорије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Сваки хемијски процес који укључује раскидање и формирање више хемијских веза се одвија по сложеном механизму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Фактори који утичу на брзину хемијских ре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6483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онцентра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ом концентрације реактаната се повећава број судара што доводи до повећања брзине хемијске реа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ом температуре повећава се кинетичка енергија честица које се судараду  што доводи до пораста брзине хемијс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1752480"/>
            <a:ext cx="449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Површи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растом површине расте вероватноћа судара па самим тим и брзина хемијс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Присуство катализа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тализатори су супстанце које убрзавају хемијске реакције, тако што се у њиховом присуству снижава енергија активације дат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838080" y="2590920"/>
            <a:ext cx="75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РЗИНА РЕАКЦИЈЕ, УТИЦАЈ КОНЦЕНТРАЦИЈЕ НА БРЗИНУ РЕА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416160" y="23004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ремен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грес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611520" y="65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74600" y="1289160"/>
            <a:ext cx="8778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ч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 концентрација продукта B раст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3040200"/>
          <a:ext cx="3475080" cy="2808000"/>
        </p:xfrm>
        <a:graphic>
          <a:graphicData uri="http://schemas.openxmlformats.org/drawingml/2006/table">
            <a:tbl>
              <a:tblPr/>
              <a:tblGrid>
                <a:gridCol w="1036440"/>
                <a:gridCol w="1279440"/>
                <a:gridCol w="1159200"/>
              </a:tblGrid>
              <a:tr h="6177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vreme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Chart 6" descr=""/>
          <p:cNvPicPr/>
          <p:nvPr/>
        </p:nvPicPr>
        <p:blipFill>
          <a:blip r:embed="rId1"/>
          <a:stretch/>
        </p:blipFill>
        <p:spPr>
          <a:xfrm>
            <a:off x="4035600" y="2816280"/>
            <a:ext cx="4919400" cy="358452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9"/>
          <p:cNvSpPr/>
          <p:nvPr/>
        </p:nvSpPr>
        <p:spPr>
          <a:xfrm>
            <a:off x="4734000" y="3753000"/>
            <a:ext cx="2628720" cy="1761840"/>
          </a:xfrm>
          <a:custGeom>
            <a:avLst/>
            <a:gdLst/>
            <a:ahLst/>
            <a:rect l="l" t="t" r="r" b="b"/>
            <a:pathLst>
              <a:path w="2628900" h="1762125">
                <a:moveTo>
                  <a:pt x="0" y="0"/>
                </a:moveTo>
                <a:cubicBezTo>
                  <a:pt x="126206" y="196056"/>
                  <a:pt x="252412" y="392112"/>
                  <a:pt x="390525" y="552450"/>
                </a:cubicBezTo>
                <a:cubicBezTo>
                  <a:pt x="528638" y="712788"/>
                  <a:pt x="623888" y="814388"/>
                  <a:pt x="828675" y="962025"/>
                </a:cubicBezTo>
                <a:cubicBezTo>
                  <a:pt x="1033462" y="1109662"/>
                  <a:pt x="1319213" y="1304925"/>
                  <a:pt x="1619250" y="1438275"/>
                </a:cubicBezTo>
                <a:cubicBezTo>
                  <a:pt x="1919288" y="1571625"/>
                  <a:pt x="2628900" y="1762125"/>
                  <a:pt x="2628900" y="1762125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4724280" y="3990960"/>
            <a:ext cx="2714760" cy="1828800"/>
          </a:xfrm>
          <a:custGeom>
            <a:avLst/>
            <a:gdLst/>
            <a:ahLst/>
            <a:rect l="l" t="t" r="r" b="b"/>
            <a:pathLst>
              <a:path w="2714625" h="1828800">
                <a:moveTo>
                  <a:pt x="0" y="1828800"/>
                </a:moveTo>
                <a:cubicBezTo>
                  <a:pt x="139700" y="1626393"/>
                  <a:pt x="279400" y="1423987"/>
                  <a:pt x="419100" y="1266825"/>
                </a:cubicBezTo>
                <a:cubicBezTo>
                  <a:pt x="558800" y="1109663"/>
                  <a:pt x="709613" y="998537"/>
                  <a:pt x="838200" y="885825"/>
                </a:cubicBezTo>
                <a:cubicBezTo>
                  <a:pt x="966788" y="773112"/>
                  <a:pt x="1055688" y="674687"/>
                  <a:pt x="1190625" y="590550"/>
                </a:cubicBezTo>
                <a:cubicBezTo>
                  <a:pt x="1325562" y="506413"/>
                  <a:pt x="1506538" y="441325"/>
                  <a:pt x="1647825" y="381000"/>
                </a:cubicBezTo>
                <a:cubicBezTo>
                  <a:pt x="1789112" y="320675"/>
                  <a:pt x="1860550" y="292100"/>
                  <a:pt x="2038350" y="228600"/>
                </a:cubicBezTo>
                <a:cubicBezTo>
                  <a:pt x="2216150" y="165100"/>
                  <a:pt x="2465387" y="82550"/>
                  <a:pt x="2714625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11520" y="-36720"/>
            <a:ext cx="88390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рзина реак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омена концентрације реактанта или производа реакције са временом (M/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822040" y="817560"/>
            <a:ext cx="1439640" cy="459720"/>
            <a:chOff x="2822040" y="817560"/>
            <a:chExt cx="1439640" cy="459720"/>
          </a:xfrm>
        </p:grpSpPr>
        <p:sp>
          <p:nvSpPr>
            <p:cNvPr id="204" name="Text Box 5"/>
            <p:cNvSpPr/>
            <p:nvPr/>
          </p:nvSpPr>
          <p:spPr>
            <a:xfrm>
              <a:off x="2822040" y="8175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3267000" y="1056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2840" y="1274760"/>
            <a:ext cx="2647800" cy="882000"/>
            <a:chOff x="42840" y="1274760"/>
            <a:chExt cx="2647800" cy="882000"/>
          </a:xfrm>
        </p:grpSpPr>
        <p:sp>
          <p:nvSpPr>
            <p:cNvPr id="207" name="Text Box 8"/>
            <p:cNvSpPr/>
            <p:nvPr/>
          </p:nvSpPr>
          <p:spPr>
            <a:xfrm>
              <a:off x="42840" y="1492200"/>
              <a:ext cx="26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брзи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1868760" y="1274760"/>
              <a:ext cx="739800" cy="882000"/>
              <a:chOff x="1868760" y="1274760"/>
              <a:chExt cx="739800" cy="882000"/>
            </a:xfrm>
          </p:grpSpPr>
          <p:sp>
            <p:nvSpPr>
              <p:cNvPr id="209" name="Text Box 10"/>
              <p:cNvSpPr/>
              <p:nvPr/>
            </p:nvSpPr>
            <p:spPr>
              <a:xfrm>
                <a:off x="1868760" y="127476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2011680" y="169704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>
                <a:off x="1932840" y="1760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3"/>
          <p:cNvSpPr/>
          <p:nvPr/>
        </p:nvSpPr>
        <p:spPr>
          <a:xfrm>
            <a:off x="2637000" y="1333440"/>
            <a:ext cx="62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ериод вре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85680" y="2124000"/>
            <a:ext cx="2251800" cy="882000"/>
            <a:chOff x="85680" y="2124000"/>
            <a:chExt cx="2251800" cy="882000"/>
          </a:xfrm>
        </p:grpSpPr>
        <p:sp>
          <p:nvSpPr>
            <p:cNvPr id="214" name="Text Box 15"/>
            <p:cNvSpPr/>
            <p:nvPr/>
          </p:nvSpPr>
          <p:spPr>
            <a:xfrm>
              <a:off x="85680" y="2341440"/>
              <a:ext cx="18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брзи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v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6"/>
            <p:cNvGrpSpPr/>
            <p:nvPr/>
          </p:nvGrpSpPr>
          <p:grpSpPr>
            <a:xfrm>
              <a:off x="1597680" y="2124000"/>
              <a:ext cx="739800" cy="882000"/>
              <a:chOff x="1597680" y="2124000"/>
              <a:chExt cx="739800" cy="882000"/>
            </a:xfrm>
          </p:grpSpPr>
          <p:sp>
            <p:nvSpPr>
              <p:cNvPr id="216" name="Text Box 17"/>
              <p:cNvSpPr/>
              <p:nvPr/>
            </p:nvSpPr>
            <p:spPr>
              <a:xfrm>
                <a:off x="1597680" y="21240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8"/>
              <p:cNvSpPr/>
              <p:nvPr/>
            </p:nvSpPr>
            <p:spPr>
              <a:xfrm>
                <a:off x="1740600" y="254628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9"/>
              <p:cNvSpPr/>
              <p:nvPr/>
            </p:nvSpPr>
            <p:spPr>
              <a:xfrm>
                <a:off x="1661760" y="26100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20"/>
          <p:cNvSpPr/>
          <p:nvPr/>
        </p:nvSpPr>
        <p:spPr>
          <a:xfrm>
            <a:off x="2728800" y="2193840"/>
            <a:ext cx="64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]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ериод времен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52560" y="2965320"/>
            <a:ext cx="4884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ато ш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ада са временом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A]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је негати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2"/>
          <p:cNvSpPr/>
          <p:nvPr/>
        </p:nvSpPr>
        <p:spPr>
          <a:xfrm>
            <a:off x="1671480" y="1544760"/>
            <a:ext cx="381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24" descr=""/>
          <p:cNvPicPr/>
          <p:nvPr/>
        </p:nvPicPr>
        <p:blipFill>
          <a:blip r:embed="rId1"/>
          <a:stretch/>
        </p:blipFill>
        <p:spPr>
          <a:xfrm>
            <a:off x="122400" y="3584520"/>
            <a:ext cx="4694040" cy="31338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"/>
          <p:cNvGrpSpPr/>
          <p:nvPr/>
        </p:nvGrpSpPr>
        <p:grpSpPr>
          <a:xfrm>
            <a:off x="5276880" y="3100320"/>
            <a:ext cx="3730680" cy="995400"/>
            <a:chOff x="5276880" y="3100320"/>
            <a:chExt cx="3730680" cy="995400"/>
          </a:xfrm>
        </p:grpSpPr>
        <p:grpSp>
          <p:nvGrpSpPr>
            <p:cNvPr id="224" name="Group 12"/>
            <p:cNvGrpSpPr/>
            <p:nvPr/>
          </p:nvGrpSpPr>
          <p:grpSpPr>
            <a:xfrm>
              <a:off x="6277680" y="3128400"/>
              <a:ext cx="2729880" cy="967320"/>
              <a:chOff x="6277680" y="3128400"/>
              <a:chExt cx="2729880" cy="967320"/>
            </a:xfrm>
          </p:grpSpPr>
          <p:sp>
            <p:nvSpPr>
              <p:cNvPr id="225" name="Text Box 13"/>
              <p:cNvSpPr/>
              <p:nvPr/>
            </p:nvSpPr>
            <p:spPr>
              <a:xfrm>
                <a:off x="6277680" y="3358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Group 14"/>
              <p:cNvGrpSpPr/>
              <p:nvPr/>
            </p:nvGrpSpPr>
            <p:grpSpPr>
              <a:xfrm>
                <a:off x="6896160" y="3128400"/>
                <a:ext cx="2111400" cy="967320"/>
                <a:chOff x="6896160" y="3128400"/>
                <a:chExt cx="2111400" cy="967320"/>
              </a:xfrm>
            </p:grpSpPr>
            <p:sp>
              <p:nvSpPr>
                <p:cNvPr id="227" name="Text Box 15"/>
                <p:cNvSpPr/>
                <p:nvPr/>
              </p:nvSpPr>
              <p:spPr>
                <a:xfrm>
                  <a:off x="6941880" y="3128400"/>
                  <a:ext cx="1879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</a:t>
                  </a:r>
                  <a:r>
                    <a:rPr b="0" lang="sr-Latn-CS" sz="2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final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– [</a:t>
                  </a:r>
                  <a:r>
                    <a:rPr b="0" lang="sr-Latn-CS" sz="2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sr-Latn-C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po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"/>
                <p:cNvSpPr/>
                <p:nvPr/>
              </p:nvSpPr>
              <p:spPr>
                <a:xfrm>
                  <a:off x="6896160" y="3611160"/>
                  <a:ext cx="2111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17"/>
                <p:cNvSpPr/>
                <p:nvPr/>
              </p:nvSpPr>
              <p:spPr>
                <a:xfrm>
                  <a:off x="7473960" y="3585600"/>
                  <a:ext cx="1236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final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sr-Latn-C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po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7"/>
            <p:cNvGrpSpPr/>
            <p:nvPr/>
          </p:nvGrpSpPr>
          <p:grpSpPr>
            <a:xfrm>
              <a:off x="5276880" y="3100320"/>
              <a:ext cx="1008360" cy="882000"/>
              <a:chOff x="5276880" y="3100320"/>
              <a:chExt cx="1008360" cy="882000"/>
            </a:xfrm>
          </p:grpSpPr>
          <p:sp>
            <p:nvSpPr>
              <p:cNvPr id="231" name="Text Box 8"/>
              <p:cNvSpPr/>
              <p:nvPr/>
            </p:nvSpPr>
            <p:spPr>
              <a:xfrm>
                <a:off x="5276880" y="3317760"/>
                <a:ext cx="82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9"/>
              <p:cNvGrpSpPr/>
              <p:nvPr/>
            </p:nvGrpSpPr>
            <p:grpSpPr>
              <a:xfrm>
                <a:off x="5545440" y="3100320"/>
                <a:ext cx="739800" cy="882000"/>
                <a:chOff x="5545440" y="3100320"/>
                <a:chExt cx="739800" cy="882000"/>
              </a:xfrm>
            </p:grpSpPr>
            <p:sp>
              <p:nvSpPr>
                <p:cNvPr id="233" name="Text Box 10"/>
                <p:cNvSpPr/>
                <p:nvPr/>
              </p:nvSpPr>
              <p:spPr>
                <a:xfrm>
                  <a:off x="5545440" y="310032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1"/>
                <p:cNvSpPr/>
                <p:nvPr/>
              </p:nvSpPr>
              <p:spPr>
                <a:xfrm>
                  <a:off x="5688360" y="352260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"/>
                <p:cNvSpPr/>
                <p:nvPr/>
              </p:nvSpPr>
              <p:spPr>
                <a:xfrm>
                  <a:off x="5609520" y="358632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6" name=""/>
          <p:cNvGraphicFramePr/>
          <p:nvPr/>
        </p:nvGraphicFramePr>
        <p:xfrm>
          <a:off x="5029200" y="4049640"/>
          <a:ext cx="3897360" cy="2808360"/>
        </p:xfrm>
        <a:graphic>
          <a:graphicData uri="http://schemas.openxmlformats.org/drawingml/2006/table">
            <a:tbl>
              <a:tblPr/>
              <a:tblGrid>
                <a:gridCol w="542880"/>
                <a:gridCol w="1133640"/>
                <a:gridCol w="1143000"/>
                <a:gridCol w="1077840"/>
              </a:tblGrid>
              <a:tr h="6177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/l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ight Triangle 6"/>
          <p:cNvSpPr/>
          <p:nvPr/>
        </p:nvSpPr>
        <p:spPr>
          <a:xfrm>
            <a:off x="838080" y="4103640"/>
            <a:ext cx="457200" cy="5446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ight Triangle 40"/>
          <p:cNvSpPr/>
          <p:nvPr/>
        </p:nvSpPr>
        <p:spPr>
          <a:xfrm>
            <a:off x="1297080" y="4648320"/>
            <a:ext cx="457200" cy="3808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Triangle 41"/>
          <p:cNvSpPr/>
          <p:nvPr/>
        </p:nvSpPr>
        <p:spPr>
          <a:xfrm>
            <a:off x="1797120" y="5029200"/>
            <a:ext cx="473040" cy="3049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Triangle 42"/>
          <p:cNvSpPr/>
          <p:nvPr/>
        </p:nvSpPr>
        <p:spPr>
          <a:xfrm>
            <a:off x="2260440" y="5319720"/>
            <a:ext cx="468360" cy="17316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Triangle 43"/>
          <p:cNvSpPr/>
          <p:nvPr/>
        </p:nvSpPr>
        <p:spPr>
          <a:xfrm>
            <a:off x="2728800" y="5492880"/>
            <a:ext cx="470160" cy="1522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48"/>
          <p:cNvSpPr/>
          <p:nvPr/>
        </p:nvSpPr>
        <p:spPr>
          <a:xfrm>
            <a:off x="1295280" y="469260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844200" y="5294160"/>
            <a:ext cx="4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301040" y="411012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2"/>
          <p:cNvCxnSpPr/>
          <p:nvPr/>
        </p:nvCxnSpPr>
        <p:spPr>
          <a:xfrm>
            <a:off x="838080" y="572112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Straight Arrow Connector 14"/>
          <p:cNvCxnSpPr>
            <a:endCxn id="238" idx="0"/>
          </p:cNvCxnSpPr>
          <p:nvPr/>
        </p:nvCxnSpPr>
        <p:spPr>
          <a:xfrm>
            <a:off x="1294920" y="4103280"/>
            <a:ext cx="2520" cy="545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Rectangle 15"/>
          <p:cNvSpPr/>
          <p:nvPr/>
        </p:nvSpPr>
        <p:spPr>
          <a:xfrm>
            <a:off x="390636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3906360" y="41911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06360" y="4567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847680" y="5002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870000" y="533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6161760" y="2671920"/>
            <a:ext cx="2082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осечна брз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2"/>
          <p:cNvSpPr/>
          <p:nvPr/>
        </p:nvSpPr>
        <p:spPr>
          <a:xfrm>
            <a:off x="1227600" y="3657600"/>
            <a:ext cx="1831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а 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Arrow Connector 54"/>
          <p:cNvCxnSpPr>
            <a:stCxn id="253" idx="1"/>
            <a:endCxn id="237" idx="5"/>
          </p:cNvCxnSpPr>
          <p:nvPr/>
        </p:nvCxnSpPr>
        <p:spPr>
          <a:xfrm flipH="1">
            <a:off x="1066320" y="3841920"/>
            <a:ext cx="153360" cy="535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18"/>
              <p:cNvSpPr txBox="1"/>
              <p:nvPr/>
            </p:nvSpPr>
            <p:spPr>
              <a:xfrm>
                <a:off x="372960" y="2106720"/>
                <a:ext cx="2219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ΔА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Chart 19" descr=""/>
          <p:cNvPicPr/>
          <p:nvPr/>
        </p:nvPicPr>
        <p:blipFill>
          <a:blip r:embed="rId1"/>
          <a:stretch/>
        </p:blipFill>
        <p:spPr>
          <a:xfrm>
            <a:off x="23760" y="4059360"/>
            <a:ext cx="4578480" cy="2749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76320" y="304920"/>
            <a:ext cx="87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зина је функција концентрације, и у овом случају ће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1"/>
              <p:cNvSpPr txBox="1"/>
              <p:nvPr/>
            </p:nvSpPr>
            <p:spPr>
              <a:xfrm>
                <a:off x="380880" y="1143000"/>
                <a:ext cx="2529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А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22"/>
          <p:cNvSpPr/>
          <p:nvPr/>
        </p:nvSpPr>
        <p:spPr>
          <a:xfrm>
            <a:off x="3835080" y="1689120"/>
            <a:ext cx="534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 је константа брзине реа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а специфичну вред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а сваку реакци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1835280" y="5661000"/>
                <a:ext cx="2630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0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hart 2" descr=""/>
          <p:cNvPicPr/>
          <p:nvPr/>
        </p:nvPicPr>
        <p:blipFill>
          <a:blip r:embed="rId1"/>
          <a:stretch/>
        </p:blipFill>
        <p:spPr>
          <a:xfrm>
            <a:off x="304920" y="1749600"/>
            <a:ext cx="4572000" cy="37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52280" y="15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Брзина реакц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је промена концентрације реактанта или производа реакције са времен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/s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брзина се континуално мења са временом и може да се дефинише и као тренутна брзина, брзина при тренутној концентрацији реактанта, у веома кратком интервалу времена, и тада је једнака нагибу тангенте на криву концент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960480" y="5638680"/>
                <a:ext cx="3506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2"/>
          <p:cNvSpPr/>
          <p:nvPr/>
        </p:nvSpPr>
        <p:spPr>
          <a:xfrm>
            <a:off x="4952880" y="1773360"/>
            <a:ext cx="40388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рзина реакције се може изразити било као промена концентрације реактанта са временом , или промена концентрације продукта са временом, 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рзина реакције увек зависи од тренутне концентрације  реактанта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 је константа брзине реакције има специфичну вредност за сваку реак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609480" y="213372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4"/>
          <p:cNvSpPr/>
          <p:nvPr/>
        </p:nvSpPr>
        <p:spPr>
          <a:xfrm>
            <a:off x="2133720" y="3581280"/>
            <a:ext cx="60948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5"/>
          <p:cNvSpPr/>
          <p:nvPr/>
        </p:nvSpPr>
        <p:spPr>
          <a:xfrm>
            <a:off x="1219320" y="2819520"/>
            <a:ext cx="30456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6"/>
          <p:cNvSpPr/>
          <p:nvPr/>
        </p:nvSpPr>
        <p:spPr>
          <a:xfrm flipV="1">
            <a:off x="561960" y="4572000"/>
            <a:ext cx="352440" cy="331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8"/>
          <p:cNvSpPr/>
          <p:nvPr/>
        </p:nvSpPr>
        <p:spPr>
          <a:xfrm flipV="1">
            <a:off x="1104840" y="4038120"/>
            <a:ext cx="304920" cy="266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9"/>
          <p:cNvSpPr/>
          <p:nvPr/>
        </p:nvSpPr>
        <p:spPr>
          <a:xfrm flipV="1">
            <a:off x="2171880" y="3124080"/>
            <a:ext cx="57132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20"/>
          <p:cNvSpPr/>
          <p:nvPr/>
        </p:nvSpPr>
        <p:spPr>
          <a:xfrm flipV="1">
            <a:off x="3276720" y="2819160"/>
            <a:ext cx="53316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5"/>
          <p:cNvSpPr/>
          <p:nvPr/>
        </p:nvSpPr>
        <p:spPr>
          <a:xfrm>
            <a:off x="3200400" y="4038480"/>
            <a:ext cx="60948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846360" y="1523880"/>
            <a:ext cx="1831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а 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7"/>
          <p:cNvCxnSpPr/>
          <p:nvPr/>
        </p:nvCxnSpPr>
        <p:spPr>
          <a:xfrm flipH="1">
            <a:off x="761400" y="1752480"/>
            <a:ext cx="15300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47640" y="109440"/>
            <a:ext cx="72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Arial"/>
              </a:rPr>
              <a:t>Брзина реакције и стехиомет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321840" y="2513160"/>
            <a:ext cx="1608840" cy="459720"/>
            <a:chOff x="321840" y="2513160"/>
            <a:chExt cx="1608840" cy="459720"/>
          </a:xfrm>
        </p:grpSpPr>
        <p:sp>
          <p:nvSpPr>
            <p:cNvPr id="277" name="Text Box 4"/>
            <p:cNvSpPr/>
            <p:nvPr/>
          </p:nvSpPr>
          <p:spPr>
            <a:xfrm>
              <a:off x="321840" y="2513160"/>
              <a:ext cx="16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>
              <a:off x="936360" y="2752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6"/>
          <p:cNvSpPr/>
          <p:nvPr/>
        </p:nvSpPr>
        <p:spPr>
          <a:xfrm>
            <a:off x="176040" y="1635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о се два мола А реактанта троши на један мол продукта В који настаје тада ће брзина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2122920" y="3368520"/>
            <a:ext cx="3236400" cy="459720"/>
            <a:chOff x="2122920" y="3368520"/>
            <a:chExt cx="3236400" cy="459720"/>
          </a:xfrm>
        </p:grpSpPr>
        <p:sp>
          <p:nvSpPr>
            <p:cNvPr id="281" name="Text Box 24"/>
            <p:cNvSpPr/>
            <p:nvPr/>
          </p:nvSpPr>
          <p:spPr>
            <a:xfrm>
              <a:off x="2122920" y="336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3399120" y="360972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6"/>
          <p:cNvGrpSpPr/>
          <p:nvPr/>
        </p:nvGrpSpPr>
        <p:grpSpPr>
          <a:xfrm>
            <a:off x="487440" y="4286160"/>
            <a:ext cx="2256480" cy="927720"/>
            <a:chOff x="487440" y="4286160"/>
            <a:chExt cx="2256480" cy="927720"/>
          </a:xfrm>
        </p:grpSpPr>
        <p:sp>
          <p:nvSpPr>
            <p:cNvPr id="284" name="Text Box 27"/>
            <p:cNvSpPr/>
            <p:nvPr/>
          </p:nvSpPr>
          <p:spPr>
            <a:xfrm>
              <a:off x="487440" y="45036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8"/>
            <p:cNvGrpSpPr/>
            <p:nvPr/>
          </p:nvGrpSpPr>
          <p:grpSpPr>
            <a:xfrm>
              <a:off x="2004120" y="4286160"/>
              <a:ext cx="739800" cy="882000"/>
              <a:chOff x="2004120" y="4286160"/>
              <a:chExt cx="739800" cy="882000"/>
            </a:xfrm>
          </p:grpSpPr>
          <p:sp>
            <p:nvSpPr>
              <p:cNvPr id="286" name="Text Box 29"/>
              <p:cNvSpPr/>
              <p:nvPr/>
            </p:nvSpPr>
            <p:spPr>
              <a:xfrm>
                <a:off x="2004120" y="428616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0"/>
              <p:cNvSpPr/>
              <p:nvPr/>
            </p:nvSpPr>
            <p:spPr>
              <a:xfrm>
                <a:off x="2147040" y="470844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1"/>
              <p:cNvSpPr/>
              <p:nvPr/>
            </p:nvSpPr>
            <p:spPr>
              <a:xfrm>
                <a:off x="2068200" y="477216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651320" y="4336920"/>
              <a:ext cx="349920" cy="876960"/>
              <a:chOff x="1651320" y="4336920"/>
              <a:chExt cx="349920" cy="876960"/>
            </a:xfrm>
          </p:grpSpPr>
          <p:sp>
            <p:nvSpPr>
              <p:cNvPr id="290" name="Text Box 33"/>
              <p:cNvSpPr/>
              <p:nvPr/>
            </p:nvSpPr>
            <p:spPr>
              <a:xfrm>
                <a:off x="1651320" y="4336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34"/>
              <p:cNvSpPr/>
              <p:nvPr/>
            </p:nvSpPr>
            <p:spPr>
              <a:xfrm>
                <a:off x="1651320" y="475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1711440" y="4775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36"/>
          <p:cNvGrpSpPr/>
          <p:nvPr/>
        </p:nvGrpSpPr>
        <p:grpSpPr>
          <a:xfrm>
            <a:off x="2718360" y="4297320"/>
            <a:ext cx="1613160" cy="928080"/>
            <a:chOff x="2718360" y="4297320"/>
            <a:chExt cx="1613160" cy="928080"/>
          </a:xfrm>
        </p:grpSpPr>
        <p:sp>
          <p:nvSpPr>
            <p:cNvPr id="294" name="Text Box 37"/>
            <p:cNvSpPr/>
            <p:nvPr/>
          </p:nvSpPr>
          <p:spPr>
            <a:xfrm>
              <a:off x="2718360" y="451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8"/>
            <p:cNvGrpSpPr/>
            <p:nvPr/>
          </p:nvGrpSpPr>
          <p:grpSpPr>
            <a:xfrm>
              <a:off x="3591720" y="4297320"/>
              <a:ext cx="739800" cy="882000"/>
              <a:chOff x="3591720" y="4297320"/>
              <a:chExt cx="739800" cy="882000"/>
            </a:xfrm>
          </p:grpSpPr>
          <p:sp>
            <p:nvSpPr>
              <p:cNvPr id="296" name="Text Box 39"/>
              <p:cNvSpPr/>
              <p:nvPr/>
            </p:nvSpPr>
            <p:spPr>
              <a:xfrm>
                <a:off x="3591720" y="429732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40"/>
              <p:cNvSpPr/>
              <p:nvPr/>
            </p:nvSpPr>
            <p:spPr>
              <a:xfrm>
                <a:off x="373464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1"/>
              <p:cNvSpPr/>
              <p:nvPr/>
            </p:nvSpPr>
            <p:spPr>
              <a:xfrm>
                <a:off x="365580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2"/>
            <p:cNvGrpSpPr/>
            <p:nvPr/>
          </p:nvGrpSpPr>
          <p:grpSpPr>
            <a:xfrm>
              <a:off x="3238560" y="4348440"/>
              <a:ext cx="349920" cy="876960"/>
              <a:chOff x="3238560" y="4348440"/>
              <a:chExt cx="349920" cy="876960"/>
            </a:xfrm>
          </p:grpSpPr>
          <p:sp>
            <p:nvSpPr>
              <p:cNvPr id="300" name="Text Box 43"/>
              <p:cNvSpPr/>
              <p:nvPr/>
            </p:nvSpPr>
            <p:spPr>
              <a:xfrm>
                <a:off x="3238560" y="4348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44"/>
              <p:cNvSpPr/>
              <p:nvPr/>
            </p:nvSpPr>
            <p:spPr>
              <a:xfrm>
                <a:off x="3238560" y="4765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>
                <a:off x="3298680" y="47865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46"/>
          <p:cNvGrpSpPr/>
          <p:nvPr/>
        </p:nvGrpSpPr>
        <p:grpSpPr>
          <a:xfrm>
            <a:off x="4381200" y="4297320"/>
            <a:ext cx="1498680" cy="927720"/>
            <a:chOff x="4381200" y="4297320"/>
            <a:chExt cx="1498680" cy="927720"/>
          </a:xfrm>
        </p:grpSpPr>
        <p:sp>
          <p:nvSpPr>
            <p:cNvPr id="304" name="Text Box 47"/>
            <p:cNvSpPr/>
            <p:nvPr/>
          </p:nvSpPr>
          <p:spPr>
            <a:xfrm>
              <a:off x="4381200" y="4514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8"/>
            <p:cNvGrpSpPr/>
            <p:nvPr/>
          </p:nvGrpSpPr>
          <p:grpSpPr>
            <a:xfrm>
              <a:off x="5123160" y="4297320"/>
              <a:ext cx="756720" cy="882000"/>
              <a:chOff x="5123160" y="4297320"/>
              <a:chExt cx="756720" cy="882000"/>
            </a:xfrm>
          </p:grpSpPr>
          <p:sp>
            <p:nvSpPr>
              <p:cNvPr id="306" name="Text Box 49"/>
              <p:cNvSpPr/>
              <p:nvPr/>
            </p:nvSpPr>
            <p:spPr>
              <a:xfrm>
                <a:off x="5123160" y="42973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50"/>
              <p:cNvSpPr/>
              <p:nvPr/>
            </p:nvSpPr>
            <p:spPr>
              <a:xfrm>
                <a:off x="526608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1"/>
              <p:cNvSpPr/>
              <p:nvPr/>
            </p:nvSpPr>
            <p:spPr>
              <a:xfrm>
                <a:off x="518724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52"/>
            <p:cNvGrpSpPr/>
            <p:nvPr/>
          </p:nvGrpSpPr>
          <p:grpSpPr>
            <a:xfrm>
              <a:off x="4770360" y="4348080"/>
              <a:ext cx="349920" cy="876960"/>
              <a:chOff x="4770360" y="4348080"/>
              <a:chExt cx="349920" cy="876960"/>
            </a:xfrm>
          </p:grpSpPr>
          <p:sp>
            <p:nvSpPr>
              <p:cNvPr id="310" name="Text Box 53"/>
              <p:cNvSpPr/>
              <p:nvPr/>
            </p:nvSpPr>
            <p:spPr>
              <a:xfrm>
                <a:off x="4770360" y="434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54"/>
              <p:cNvSpPr/>
              <p:nvPr/>
            </p:nvSpPr>
            <p:spPr>
              <a:xfrm>
                <a:off x="4770360" y="476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5"/>
              <p:cNvSpPr/>
              <p:nvPr/>
            </p:nvSpPr>
            <p:spPr>
              <a:xfrm>
                <a:off x="4830480" y="4786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56"/>
          <p:cNvGrpSpPr/>
          <p:nvPr/>
        </p:nvGrpSpPr>
        <p:grpSpPr>
          <a:xfrm>
            <a:off x="5867280" y="4297320"/>
            <a:ext cx="1498680" cy="927720"/>
            <a:chOff x="5867280" y="4297320"/>
            <a:chExt cx="1498680" cy="927720"/>
          </a:xfrm>
        </p:grpSpPr>
        <p:sp>
          <p:nvSpPr>
            <p:cNvPr id="314" name="Text Box 57"/>
            <p:cNvSpPr/>
            <p:nvPr/>
          </p:nvSpPr>
          <p:spPr>
            <a:xfrm>
              <a:off x="5867280" y="4514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58"/>
            <p:cNvGrpSpPr/>
            <p:nvPr/>
          </p:nvGrpSpPr>
          <p:grpSpPr>
            <a:xfrm>
              <a:off x="6609240" y="4297320"/>
              <a:ext cx="756720" cy="882000"/>
              <a:chOff x="6609240" y="4297320"/>
              <a:chExt cx="756720" cy="882000"/>
            </a:xfrm>
          </p:grpSpPr>
          <p:sp>
            <p:nvSpPr>
              <p:cNvPr id="316" name="Text Box 59"/>
              <p:cNvSpPr/>
              <p:nvPr/>
            </p:nvSpPr>
            <p:spPr>
              <a:xfrm>
                <a:off x="6609240" y="42973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60"/>
              <p:cNvSpPr/>
              <p:nvPr/>
            </p:nvSpPr>
            <p:spPr>
              <a:xfrm>
                <a:off x="675216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1"/>
              <p:cNvSpPr/>
              <p:nvPr/>
            </p:nvSpPr>
            <p:spPr>
              <a:xfrm>
                <a:off x="667332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2"/>
            <p:cNvGrpSpPr/>
            <p:nvPr/>
          </p:nvGrpSpPr>
          <p:grpSpPr>
            <a:xfrm>
              <a:off x="6256440" y="4348080"/>
              <a:ext cx="349920" cy="876960"/>
              <a:chOff x="6256440" y="4348080"/>
              <a:chExt cx="349920" cy="876960"/>
            </a:xfrm>
          </p:grpSpPr>
          <p:sp>
            <p:nvSpPr>
              <p:cNvPr id="320" name="Text Box 63"/>
              <p:cNvSpPr/>
              <p:nvPr/>
            </p:nvSpPr>
            <p:spPr>
              <a:xfrm>
                <a:off x="6256440" y="434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64"/>
              <p:cNvSpPr/>
              <p:nvPr/>
            </p:nvSpPr>
            <p:spPr>
              <a:xfrm>
                <a:off x="6256440" y="47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65"/>
              <p:cNvSpPr/>
              <p:nvPr/>
            </p:nvSpPr>
            <p:spPr>
              <a:xfrm>
                <a:off x="6316560" y="4786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4"/>
          <p:cNvGrpSpPr/>
          <p:nvPr/>
        </p:nvGrpSpPr>
        <p:grpSpPr>
          <a:xfrm>
            <a:off x="321840" y="836640"/>
            <a:ext cx="1439640" cy="459720"/>
            <a:chOff x="321840" y="836640"/>
            <a:chExt cx="1439640" cy="459720"/>
          </a:xfrm>
        </p:grpSpPr>
        <p:sp>
          <p:nvSpPr>
            <p:cNvPr id="324" name="Text Box 5"/>
            <p:cNvSpPr/>
            <p:nvPr/>
          </p:nvSpPr>
          <p:spPr>
            <a:xfrm>
              <a:off x="321840" y="83664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766800" y="1076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"/>
          <p:cNvGrpSpPr/>
          <p:nvPr/>
        </p:nvGrpSpPr>
        <p:grpSpPr>
          <a:xfrm>
            <a:off x="1832040" y="712800"/>
            <a:ext cx="2718720" cy="924840"/>
            <a:chOff x="1832040" y="712800"/>
            <a:chExt cx="2718720" cy="924840"/>
          </a:xfrm>
        </p:grpSpPr>
        <p:grpSp>
          <p:nvGrpSpPr>
            <p:cNvPr id="327" name="Group 7"/>
            <p:cNvGrpSpPr/>
            <p:nvPr/>
          </p:nvGrpSpPr>
          <p:grpSpPr>
            <a:xfrm>
              <a:off x="3426840" y="712800"/>
              <a:ext cx="1123920" cy="882000"/>
              <a:chOff x="3426840" y="712800"/>
              <a:chExt cx="1123920" cy="882000"/>
            </a:xfrm>
          </p:grpSpPr>
          <p:sp>
            <p:nvSpPr>
              <p:cNvPr id="328" name="Text Box 8"/>
              <p:cNvSpPr/>
              <p:nvPr/>
            </p:nvSpPr>
            <p:spPr>
              <a:xfrm>
                <a:off x="3426840" y="99072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9"/>
              <p:cNvGrpSpPr/>
              <p:nvPr/>
            </p:nvGrpSpPr>
            <p:grpSpPr>
              <a:xfrm>
                <a:off x="3810960" y="712800"/>
                <a:ext cx="739800" cy="882000"/>
                <a:chOff x="3810960" y="712800"/>
                <a:chExt cx="739800" cy="882000"/>
              </a:xfrm>
            </p:grpSpPr>
            <p:sp>
              <p:nvSpPr>
                <p:cNvPr id="330" name="Text Box 10"/>
                <p:cNvSpPr/>
                <p:nvPr/>
              </p:nvSpPr>
              <p:spPr>
                <a:xfrm>
                  <a:off x="3810960" y="71280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B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11"/>
                <p:cNvSpPr/>
                <p:nvPr/>
              </p:nvSpPr>
              <p:spPr>
                <a:xfrm>
                  <a:off x="3953880" y="113508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2"/>
                <p:cNvSpPr/>
                <p:nvPr/>
              </p:nvSpPr>
              <p:spPr>
                <a:xfrm>
                  <a:off x="3875040" y="119880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13"/>
            <p:cNvGrpSpPr/>
            <p:nvPr/>
          </p:nvGrpSpPr>
          <p:grpSpPr>
            <a:xfrm>
              <a:off x="1832040" y="755640"/>
              <a:ext cx="1693080" cy="882000"/>
              <a:chOff x="1832040" y="755640"/>
              <a:chExt cx="1693080" cy="882000"/>
            </a:xfrm>
          </p:grpSpPr>
          <p:sp>
            <p:nvSpPr>
              <p:cNvPr id="334" name="Text Box 14"/>
              <p:cNvSpPr/>
              <p:nvPr/>
            </p:nvSpPr>
            <p:spPr>
              <a:xfrm>
                <a:off x="1832040" y="990720"/>
                <a:ext cx="101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Group 15"/>
              <p:cNvGrpSpPr/>
              <p:nvPr/>
            </p:nvGrpSpPr>
            <p:grpSpPr>
              <a:xfrm>
                <a:off x="2785320" y="755640"/>
                <a:ext cx="739800" cy="882000"/>
                <a:chOff x="2785320" y="755640"/>
                <a:chExt cx="739800" cy="882000"/>
              </a:xfrm>
            </p:grpSpPr>
            <p:sp>
              <p:nvSpPr>
                <p:cNvPr id="336" name="Text Box 16"/>
                <p:cNvSpPr/>
                <p:nvPr/>
              </p:nvSpPr>
              <p:spPr>
                <a:xfrm>
                  <a:off x="2785320" y="75564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7"/>
                <p:cNvSpPr/>
                <p:nvPr/>
              </p:nvSpPr>
              <p:spPr>
                <a:xfrm>
                  <a:off x="2928240" y="117792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8"/>
                <p:cNvSpPr/>
                <p:nvPr/>
              </p:nvSpPr>
              <p:spPr>
                <a:xfrm>
                  <a:off x="2849400" y="124164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Group 5"/>
          <p:cNvGrpSpPr/>
          <p:nvPr/>
        </p:nvGrpSpPr>
        <p:grpSpPr>
          <a:xfrm>
            <a:off x="2175120" y="2416320"/>
            <a:ext cx="3326400" cy="945000"/>
            <a:chOff x="2175120" y="2416320"/>
            <a:chExt cx="3326400" cy="945000"/>
          </a:xfrm>
        </p:grpSpPr>
        <p:grpSp>
          <p:nvGrpSpPr>
            <p:cNvPr id="340" name="Group 13"/>
            <p:cNvGrpSpPr/>
            <p:nvPr/>
          </p:nvGrpSpPr>
          <p:grpSpPr>
            <a:xfrm>
              <a:off x="2175120" y="2433600"/>
              <a:ext cx="2256480" cy="927720"/>
              <a:chOff x="2175120" y="2433600"/>
              <a:chExt cx="2256480" cy="927720"/>
            </a:xfrm>
          </p:grpSpPr>
          <p:sp>
            <p:nvSpPr>
              <p:cNvPr id="341" name="Text Box 14"/>
              <p:cNvSpPr/>
              <p:nvPr/>
            </p:nvSpPr>
            <p:spPr>
              <a:xfrm>
                <a:off x="2175120" y="2651040"/>
                <a:ext cx="78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15"/>
              <p:cNvGrpSpPr/>
              <p:nvPr/>
            </p:nvGrpSpPr>
            <p:grpSpPr>
              <a:xfrm>
                <a:off x="3691800" y="2433600"/>
                <a:ext cx="739800" cy="882000"/>
                <a:chOff x="3691800" y="2433600"/>
                <a:chExt cx="739800" cy="882000"/>
              </a:xfrm>
            </p:grpSpPr>
            <p:sp>
              <p:nvSpPr>
                <p:cNvPr id="343" name="Text Box 16"/>
                <p:cNvSpPr/>
                <p:nvPr/>
              </p:nvSpPr>
              <p:spPr>
                <a:xfrm>
                  <a:off x="3691800" y="243360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17"/>
                <p:cNvSpPr/>
                <p:nvPr/>
              </p:nvSpPr>
              <p:spPr>
                <a:xfrm>
                  <a:off x="3834720" y="285588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8"/>
                <p:cNvSpPr/>
                <p:nvPr/>
              </p:nvSpPr>
              <p:spPr>
                <a:xfrm>
                  <a:off x="3755880" y="291960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19"/>
              <p:cNvGrpSpPr/>
              <p:nvPr/>
            </p:nvGrpSpPr>
            <p:grpSpPr>
              <a:xfrm>
                <a:off x="3339000" y="2484360"/>
                <a:ext cx="349920" cy="876960"/>
                <a:chOff x="3339000" y="2484360"/>
                <a:chExt cx="349920" cy="876960"/>
              </a:xfrm>
            </p:grpSpPr>
            <p:sp>
              <p:nvSpPr>
                <p:cNvPr id="347" name="Text Box 20"/>
                <p:cNvSpPr/>
                <p:nvPr/>
              </p:nvSpPr>
              <p:spPr>
                <a:xfrm>
                  <a:off x="3339000" y="2484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Text Box 21"/>
                <p:cNvSpPr/>
                <p:nvPr/>
              </p:nvSpPr>
              <p:spPr>
                <a:xfrm>
                  <a:off x="3339000" y="29016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2"/>
                <p:cNvSpPr/>
                <p:nvPr/>
              </p:nvSpPr>
              <p:spPr>
                <a:xfrm>
                  <a:off x="3399120" y="2922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7"/>
            <p:cNvGrpSpPr/>
            <p:nvPr/>
          </p:nvGrpSpPr>
          <p:grpSpPr>
            <a:xfrm>
              <a:off x="4377600" y="2416320"/>
              <a:ext cx="1123920" cy="882000"/>
              <a:chOff x="4377600" y="2416320"/>
              <a:chExt cx="1123920" cy="882000"/>
            </a:xfrm>
          </p:grpSpPr>
          <p:sp>
            <p:nvSpPr>
              <p:cNvPr id="351" name="Text Box 8"/>
              <p:cNvSpPr/>
              <p:nvPr/>
            </p:nvSpPr>
            <p:spPr>
              <a:xfrm>
                <a:off x="4377600" y="269424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9"/>
              <p:cNvGrpSpPr/>
              <p:nvPr/>
            </p:nvGrpSpPr>
            <p:grpSpPr>
              <a:xfrm>
                <a:off x="4761720" y="2416320"/>
                <a:ext cx="739800" cy="882000"/>
                <a:chOff x="4761720" y="2416320"/>
                <a:chExt cx="739800" cy="882000"/>
              </a:xfrm>
            </p:grpSpPr>
            <p:sp>
              <p:nvSpPr>
                <p:cNvPr id="353" name="Text Box 10"/>
                <p:cNvSpPr/>
                <p:nvPr/>
              </p:nvSpPr>
              <p:spPr>
                <a:xfrm>
                  <a:off x="4761720" y="241632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B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11"/>
                <p:cNvSpPr/>
                <p:nvPr/>
              </p:nvSpPr>
              <p:spPr>
                <a:xfrm>
                  <a:off x="4904640" y="283860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2"/>
                <p:cNvSpPr/>
                <p:nvPr/>
              </p:nvSpPr>
              <p:spPr>
                <a:xfrm>
                  <a:off x="4825800" y="290232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894200" y="793800"/>
                <a:ext cx="26020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18"/>
          <p:cNvSpPr/>
          <p:nvPr/>
        </p:nvSpPr>
        <p:spPr>
          <a:xfrm>
            <a:off x="0" y="38257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a,b, c i d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у стехиометријски коефицијенти у хемијској једначин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-90360" y="5562720"/>
                <a:ext cx="8942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9"/>
              <p:cNvSpPr txBox="1"/>
              <p:nvPr/>
            </p:nvSpPr>
            <p:spPr>
              <a:xfrm>
                <a:off x="5645160" y="2590920"/>
                <a:ext cx="2058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јмо реак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42160" y="179280"/>
            <a:ext cx="8319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Брзина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реакциј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техиометрија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реакциј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3657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матрајмо други приме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Cl (g)</a:t>
            </a: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 +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380880" y="4876920"/>
                <a:ext cx="7620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Cl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1"/>
          <p:cNvSpPr/>
          <p:nvPr/>
        </p:nvSpPr>
        <p:spPr>
          <a:xfrm>
            <a:off x="0" y="6172200"/>
            <a:ext cx="8915400" cy="73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mo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реакцији нестаје док с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mol 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0" y="2438280"/>
                <a:ext cx="85597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= -</m:t>
                    </m:r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+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+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309600" y="685800"/>
            <a:ext cx="883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пшем случају  када се укупна реакција неког хемијског процеса може приказати једначи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виси од концентрације врста које реагују и изражава се  једначин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779840" y="457200"/>
            <a:ext cx="540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9960" y="110340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а реакција је процес у коме се реактанти трансформишу у продукте реакције тако што долази до раскидања неких веза и формирања нових хемијских в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је област физичке хемије кој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уч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којом се брзином одвијају хемијски проце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253960" y="5638680"/>
            <a:ext cx="43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5335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304920" y="1143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  је функција тренутне концентрације реакта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57200" y="20574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изразу за брз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 брз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, В су тренутне концентрације реакта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у односу на реактант 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у односу на реакт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и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=l+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укупни ред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кспоненти који представљају ред реакције нису једнаки стехиометријским коефицијент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689560" y="2666880"/>
            <a:ext cx="42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ЕД РЕАКЦИЈ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609480" y="8380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[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1447920"/>
            <a:ext cx="91440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и ред реакције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= l +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нулт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прв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треће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/2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/2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се одређује експериментално на основу експеримената у којима се мере промене концентрације  реактаната са време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4038480" y="294012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5867280" y="304920"/>
                <a:ext cx="2757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5943600" y="1828800"/>
                <a:ext cx="2617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5943600" y="3429000"/>
                <a:ext cx="2478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838080" y="3581280"/>
                <a:ext cx="2971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5638680" y="5410080"/>
                <a:ext cx="30639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762120" y="6094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т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762120" y="17524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685800" y="2971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0" y="51814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/2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/2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14"/>
          <p:cNvSpPr/>
          <p:nvPr/>
        </p:nvSpPr>
        <p:spPr>
          <a:xfrm>
            <a:off x="4572000" y="76212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Arrow 16"/>
          <p:cNvSpPr/>
          <p:nvPr/>
        </p:nvSpPr>
        <p:spPr>
          <a:xfrm>
            <a:off x="4876920" y="2133720"/>
            <a:ext cx="533160" cy="45720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ight Arrow 18"/>
          <p:cNvSpPr/>
          <p:nvPr/>
        </p:nvSpPr>
        <p:spPr>
          <a:xfrm>
            <a:off x="5029200" y="579132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own Arrow 19"/>
          <p:cNvSpPr/>
          <p:nvPr/>
        </p:nvSpPr>
        <p:spPr>
          <a:xfrm rot="3535200">
            <a:off x="4421520" y="3349440"/>
            <a:ext cx="484200" cy="588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wn Arrow 20"/>
          <p:cNvSpPr/>
          <p:nvPr/>
        </p:nvSpPr>
        <p:spPr>
          <a:xfrm rot="18895800">
            <a:off x="5100480" y="3357000"/>
            <a:ext cx="485640" cy="6192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762120" y="1752480"/>
                <a:ext cx="20574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1295280" y="2971800"/>
                <a:ext cx="182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457200" y="5295960"/>
                <a:ext cx="35053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/>
                    </m:nary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1"/>
              <p:cNvSpPr txBox="1"/>
              <p:nvPr/>
            </p:nvSpPr>
            <p:spPr>
              <a:xfrm>
                <a:off x="5029200" y="2514600"/>
                <a:ext cx="3813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 Box 14"/>
          <p:cNvSpPr/>
          <p:nvPr/>
        </p:nvSpPr>
        <p:spPr>
          <a:xfrm>
            <a:off x="169200" y="251460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двоји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5"/>
              <p:cNvSpPr txBox="1"/>
              <p:nvPr/>
            </p:nvSpPr>
            <p:spPr>
              <a:xfrm>
                <a:off x="5105520" y="5410080"/>
                <a:ext cx="3708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Text Box 16"/>
          <p:cNvSpPr/>
          <p:nvPr/>
        </p:nvSpPr>
        <p:spPr>
          <a:xfrm>
            <a:off x="0" y="3886200"/>
            <a:ext cx="5638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и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иц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=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нут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5562720" y="1447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5257800" y="34290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хо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37320" y="15552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рактеристике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180000" y="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афич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иказ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304920" y="2666880"/>
                <a:ext cx="3708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Text Box 8"/>
          <p:cNvSpPr/>
          <p:nvPr/>
        </p:nvSpPr>
        <p:spPr>
          <a:xfrm>
            <a:off x="2286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поненц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952880" y="5335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гарит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еар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952880" y="2209680"/>
                <a:ext cx="3946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2"/>
              <p:cNvSpPr txBox="1"/>
              <p:nvPr/>
            </p:nvSpPr>
            <p:spPr>
              <a:xfrm>
                <a:off x="4876920" y="3048120"/>
                <a:ext cx="395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27"/>
          <p:cNvSpPr/>
          <p:nvPr/>
        </p:nvSpPr>
        <p:spPr>
          <a:xfrm>
            <a:off x="1244520" y="40942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>
            <a:off x="1258920" y="59850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532440" y="4648320"/>
            <a:ext cx="74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1869840" y="601488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31"/>
          <p:cNvSpPr/>
          <p:nvPr/>
        </p:nvSpPr>
        <p:spPr>
          <a:xfrm>
            <a:off x="1260360" y="4262400"/>
            <a:ext cx="2133720" cy="16509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2"/>
          <p:cNvSpPr/>
          <p:nvPr/>
        </p:nvSpPr>
        <p:spPr>
          <a:xfrm>
            <a:off x="5943600" y="431496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3"/>
          <p:cNvSpPr/>
          <p:nvPr/>
        </p:nvSpPr>
        <p:spPr>
          <a:xfrm>
            <a:off x="5958000" y="620568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4"/>
          <p:cNvSpPr/>
          <p:nvPr/>
        </p:nvSpPr>
        <p:spPr>
          <a:xfrm>
            <a:off x="4879800" y="5138640"/>
            <a:ext cx="1129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5"/>
          <p:cNvSpPr/>
          <p:nvPr/>
        </p:nvSpPr>
        <p:spPr>
          <a:xfrm>
            <a:off x="5943600" y="4529160"/>
            <a:ext cx="185256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6"/>
          <p:cNvSpPr/>
          <p:nvPr/>
        </p:nvSpPr>
        <p:spPr>
          <a:xfrm>
            <a:off x="6933960" y="628164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4501800" y="4191120"/>
            <a:ext cx="1181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"/>
          <p:cNvSpPr/>
          <p:nvPr/>
        </p:nvSpPr>
        <p:spPr>
          <a:xfrm flipH="1" flipV="1">
            <a:off x="5333760" y="4376520"/>
            <a:ext cx="6094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7238880" y="4038480"/>
                <a:ext cx="164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2"/>
          <p:cNvSpPr/>
          <p:nvPr/>
        </p:nvSpPr>
        <p:spPr>
          <a:xfrm>
            <a:off x="6942240" y="47671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гиб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380880" y="2588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уживот реакције првог реда је време потребно да се концентрација реактанта смањи на половину у односу на почтну концентр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3760" y="1765440"/>
            <a:ext cx="864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453960" y="2144880"/>
            <a:ext cx="4638600" cy="2890080"/>
            <a:chOff x="453960" y="2144880"/>
            <a:chExt cx="4638600" cy="2890080"/>
          </a:xfrm>
        </p:grpSpPr>
        <p:sp>
          <p:nvSpPr>
            <p:cNvPr id="425" name="Line 27"/>
            <p:cNvSpPr/>
            <p:nvPr/>
          </p:nvSpPr>
          <p:spPr>
            <a:xfrm>
              <a:off x="1017720" y="2144880"/>
              <a:ext cx="0" cy="22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1041480" y="44190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4213440" y="445860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rc 31"/>
            <p:cNvSpPr/>
            <p:nvPr/>
          </p:nvSpPr>
          <p:spPr>
            <a:xfrm>
              <a:off x="1044000" y="2347200"/>
              <a:ext cx="3549960" cy="1985760"/>
            </a:xfrm>
            <a:custGeom>
              <a:avLst/>
              <a:gdLst>
                <a:gd name="textAreaLeft" fmla="*/ 0 w 3549960"/>
                <a:gd name="textAreaRight" fmla="*/ 3550320 w 3549960"/>
                <a:gd name="textAreaTop" fmla="*/ 0 h 1985760"/>
                <a:gd name="textAreaBottom" fmla="*/ 1986120 h 19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9"/>
            <p:cNvSpPr/>
            <p:nvPr/>
          </p:nvSpPr>
          <p:spPr>
            <a:xfrm>
              <a:off x="453960" y="2346480"/>
              <a:ext cx="4546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0"/>
            <p:cNvSpPr/>
            <p:nvPr/>
          </p:nvSpPr>
          <p:spPr>
            <a:xfrm>
              <a:off x="545760" y="3340080"/>
              <a:ext cx="4546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29"/>
          <p:cNvSpPr/>
          <p:nvPr/>
        </p:nvSpPr>
        <p:spPr>
          <a:xfrm>
            <a:off x="-44640" y="2776680"/>
            <a:ext cx="1181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4"/>
          <p:cNvSpPr/>
          <p:nvPr/>
        </p:nvSpPr>
        <p:spPr>
          <a:xfrm>
            <a:off x="1523880" y="3340080"/>
            <a:ext cx="0" cy="11145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>
            <a:off x="1304640" y="4457880"/>
            <a:ext cx="594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6"/>
              <p:cNvSpPr txBox="1"/>
              <p:nvPr/>
            </p:nvSpPr>
            <p:spPr>
              <a:xfrm>
                <a:off x="5638680" y="1224000"/>
                <a:ext cx="3178440" cy="53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</m:e>
                      <m:e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7"/>
              <p:cNvSpPr txBox="1"/>
              <p:nvPr/>
            </p:nvSpPr>
            <p:spPr>
              <a:xfrm>
                <a:off x="139680" y="5108400"/>
                <a:ext cx="23385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8"/>
              <p:cNvSpPr txBox="1"/>
              <p:nvPr/>
            </p:nvSpPr>
            <p:spPr>
              <a:xfrm>
                <a:off x="2604960" y="5151600"/>
                <a:ext cx="276876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"/>
          <p:cNvSpPr/>
          <p:nvPr/>
        </p:nvSpPr>
        <p:spPr>
          <a:xfrm>
            <a:off x="405000" y="228600"/>
            <a:ext cx="46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80880" y="1600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 другог реда 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извод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ата А и 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2819520" y="2743200"/>
                <a:ext cx="2993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Rectangle 8"/>
          <p:cNvSpPr/>
          <p:nvPr/>
        </p:nvSpPr>
        <p:spPr>
          <a:xfrm>
            <a:off x="3048120" y="9144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228600" y="3886200"/>
            <a:ext cx="891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чет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 међусоб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дна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ис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бли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1760400" y="609588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2133720" y="5105520"/>
                <a:ext cx="43084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19440" y="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7"/>
              <p:cNvSpPr txBox="1"/>
              <p:nvPr/>
            </p:nvSpPr>
            <p:spPr>
              <a:xfrm>
                <a:off x="541440" y="1371600"/>
                <a:ext cx="2628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Rectangle 8"/>
          <p:cNvSpPr/>
          <p:nvPr/>
        </p:nvSpPr>
        <p:spPr>
          <a:xfrm>
            <a:off x="228600" y="4572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1"/>
              <p:cNvSpPr txBox="1"/>
              <p:nvPr/>
            </p:nvSpPr>
            <p:spPr>
              <a:xfrm>
                <a:off x="685800" y="3448080"/>
                <a:ext cx="2286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Text Box 13"/>
          <p:cNvSpPr/>
          <p:nvPr/>
        </p:nvSpPr>
        <p:spPr>
          <a:xfrm>
            <a:off x="304920" y="2514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=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нут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4"/>
              <p:cNvSpPr txBox="1"/>
              <p:nvPr/>
            </p:nvSpPr>
            <p:spPr>
              <a:xfrm>
                <a:off x="4876920" y="3254400"/>
                <a:ext cx="3352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/>
                    </m:nary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 Box 15"/>
          <p:cNvSpPr/>
          <p:nvPr/>
        </p:nvSpPr>
        <p:spPr>
          <a:xfrm>
            <a:off x="4017960" y="160020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0" y="487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9"/>
              <p:cNvSpPr txBox="1"/>
              <p:nvPr/>
            </p:nvSpPr>
            <p:spPr>
              <a:xfrm>
                <a:off x="3276720" y="5334120"/>
                <a:ext cx="3124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5120" y="0"/>
            <a:ext cx="64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графичк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и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36440" y="798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пад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711360" y="14320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725400" y="33228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-1080" y="1986120"/>
            <a:ext cx="74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2666880" y="320040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10"/>
          <p:cNvSpPr/>
          <p:nvPr/>
        </p:nvSpPr>
        <p:spPr>
          <a:xfrm>
            <a:off x="727200" y="1600200"/>
            <a:ext cx="2133360" cy="16509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304920" y="3581280"/>
            <a:ext cx="88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ж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кц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6656400" y="43498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6670800" y="62406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5950800" y="4903920"/>
            <a:ext cx="812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319160" y="6275520"/>
            <a:ext cx="119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6171480" y="43704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6073920" y="4944960"/>
            <a:ext cx="48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 flipV="1">
            <a:off x="6648480" y="4543200"/>
            <a:ext cx="1878120" cy="14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1"/>
              <p:cNvSpPr txBox="1"/>
              <p:nvPr/>
            </p:nvSpPr>
            <p:spPr>
              <a:xfrm>
                <a:off x="2743200" y="1600200"/>
                <a:ext cx="2540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2"/>
              <p:cNvSpPr txBox="1"/>
              <p:nvPr/>
            </p:nvSpPr>
            <p:spPr>
              <a:xfrm>
                <a:off x="1447920" y="4495680"/>
                <a:ext cx="2651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 Box 23"/>
          <p:cNvSpPr/>
          <p:nvPr/>
        </p:nvSpPr>
        <p:spPr>
          <a:xfrm>
            <a:off x="0" y="58420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лучај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кад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танат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почетк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ис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ист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добић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ешто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ложенији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израз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6324480" y="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7920" y="38088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5"/>
          <p:cNvSpPr/>
          <p:nvPr/>
        </p:nvSpPr>
        <p:spPr>
          <a:xfrm>
            <a:off x="399960" y="287028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>
            <a:off x="1904760" y="3755880"/>
            <a:ext cx="59508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714760" y="3784680"/>
            <a:ext cx="523800" cy="55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"/>
          <p:cNvGrpSpPr/>
          <p:nvPr/>
        </p:nvGrpSpPr>
        <p:grpSpPr>
          <a:xfrm>
            <a:off x="4414680" y="2871720"/>
            <a:ext cx="1873440" cy="1219320"/>
            <a:chOff x="4414680" y="2871720"/>
            <a:chExt cx="1873440" cy="1219320"/>
          </a:xfrm>
        </p:grpSpPr>
        <p:sp>
          <p:nvSpPr>
            <p:cNvPr id="101" name="Oval 6"/>
            <p:cNvSpPr/>
            <p:nvPr/>
          </p:nvSpPr>
          <p:spPr>
            <a:xfrm>
              <a:off x="5068800" y="287172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4414680" y="3176280"/>
              <a:ext cx="609840" cy="6098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Straight Arrow Connector 7"/>
          <p:cNvCxnSpPr/>
          <p:nvPr/>
        </p:nvCxnSpPr>
        <p:spPr>
          <a:xfrm>
            <a:off x="1936800" y="3479400"/>
            <a:ext cx="16912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04" name="Group 12"/>
          <p:cNvGrpSpPr/>
          <p:nvPr/>
        </p:nvGrpSpPr>
        <p:grpSpPr>
          <a:xfrm>
            <a:off x="338040" y="4397400"/>
            <a:ext cx="1839960" cy="1219320"/>
            <a:chOff x="338040" y="4397400"/>
            <a:chExt cx="1839960" cy="1219320"/>
          </a:xfrm>
        </p:grpSpPr>
        <p:sp>
          <p:nvSpPr>
            <p:cNvPr id="105" name="Oval 5"/>
            <p:cNvSpPr/>
            <p:nvPr/>
          </p:nvSpPr>
          <p:spPr>
            <a:xfrm>
              <a:off x="338040" y="439740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1568520" y="47023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6"/>
          <p:cNvSpPr/>
          <p:nvPr/>
        </p:nvSpPr>
        <p:spPr>
          <a:xfrm>
            <a:off x="2629080" y="439740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889280" y="5786280"/>
            <a:ext cx="26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за која се фор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38040" y="233676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за која се раск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0"/>
            <a:ext cx="8686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Јасно је да два молекула А 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SimSun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не могу реаговати ако међусобно не интерагу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До интеракције ће доћи само ако се молекули реактанти нађу на одређеном растојању, тј. Ако се сударе и доживе такозвани реактивни суд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756240" y="2336760"/>
            <a:ext cx="29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60760" y="4052880"/>
            <a:ext cx="47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 реактивном судару учествују молекули који имају укупну енергију довољну да се веза у молекулу реактанта AB раскине и између AC фор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Bent Arrow 18"/>
          <p:cNvSpPr/>
          <p:nvPr/>
        </p:nvSpPr>
        <p:spPr>
          <a:xfrm rot="16200000">
            <a:off x="1347120" y="5537520"/>
            <a:ext cx="609480" cy="506520"/>
          </a:xfrm>
          <a:custGeom>
            <a:avLst/>
            <a:gdLst/>
            <a:ahLst/>
            <a:rect l="l" t="t" r="r" b="b"/>
            <a:pathLst>
              <a:path w="609600" h="506412">
                <a:moveTo>
                  <a:pt x="0" y="506412"/>
                </a:moveTo>
                <a:lnTo>
                  <a:pt x="0" y="284857"/>
                </a:lnTo>
                <a:cubicBezTo>
                  <a:pt x="0" y="162496"/>
                  <a:pt x="99194" y="63302"/>
                  <a:pt x="221555" y="63302"/>
                </a:cubicBezTo>
                <a:lnTo>
                  <a:pt x="482997" y="63302"/>
                </a:lnTo>
                <a:lnTo>
                  <a:pt x="482997" y="0"/>
                </a:lnTo>
                <a:lnTo>
                  <a:pt x="609600" y="126603"/>
                </a:lnTo>
                <a:lnTo>
                  <a:pt x="482997" y="253206"/>
                </a:lnTo>
                <a:lnTo>
                  <a:pt x="482997" y="189905"/>
                </a:lnTo>
                <a:lnTo>
                  <a:pt x="221555" y="189905"/>
                </a:lnTo>
                <a:cubicBezTo>
                  <a:pt x="169114" y="189905"/>
                  <a:pt x="126603" y="232416"/>
                  <a:pt x="126603" y="284857"/>
                </a:cubicBezTo>
                <a:lnTo>
                  <a:pt x="126603" y="506412"/>
                </a:lnTo>
                <a:lnTo>
                  <a:pt x="0" y="5064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nt Arrow 19"/>
          <p:cNvSpPr/>
          <p:nvPr/>
        </p:nvSpPr>
        <p:spPr>
          <a:xfrm rot="5400000">
            <a:off x="2662920" y="2491560"/>
            <a:ext cx="609480" cy="506160"/>
          </a:xfrm>
          <a:custGeom>
            <a:avLst/>
            <a:gdLst/>
            <a:ahLst/>
            <a:rect l="l" t="t" r="r" b="b"/>
            <a:pathLst>
              <a:path w="609600" h="506413">
                <a:moveTo>
                  <a:pt x="0" y="506413"/>
                </a:moveTo>
                <a:lnTo>
                  <a:pt x="0" y="284857"/>
                </a:lnTo>
                <a:cubicBezTo>
                  <a:pt x="0" y="162495"/>
                  <a:pt x="99194" y="63301"/>
                  <a:pt x="221556" y="63301"/>
                </a:cubicBezTo>
                <a:lnTo>
                  <a:pt x="482997" y="63302"/>
                </a:lnTo>
                <a:lnTo>
                  <a:pt x="482997" y="0"/>
                </a:lnTo>
                <a:lnTo>
                  <a:pt x="609600" y="126603"/>
                </a:lnTo>
                <a:lnTo>
                  <a:pt x="482997" y="253207"/>
                </a:lnTo>
                <a:lnTo>
                  <a:pt x="482997" y="189905"/>
                </a:lnTo>
                <a:lnTo>
                  <a:pt x="221556" y="189905"/>
                </a:lnTo>
                <a:cubicBezTo>
                  <a:pt x="169115" y="189905"/>
                  <a:pt x="126604" y="232416"/>
                  <a:pt x="126604" y="284857"/>
                </a:cubicBezTo>
                <a:cubicBezTo>
                  <a:pt x="126604" y="358709"/>
                  <a:pt x="126603" y="432561"/>
                  <a:pt x="126603" y="506413"/>
                </a:cubicBezTo>
                <a:lnTo>
                  <a:pt x="0" y="5064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-0.00741 L -0.21892 0.0037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08125 0.0037 E">
                                      <p:cBhvr>
                                        <p:cTn id="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Ре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стехио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4419720" cy="5443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8"/>
          <p:cNvSpPr/>
          <p:nvPr/>
        </p:nvSpPr>
        <p:spPr>
          <a:xfrm>
            <a:off x="4680" y="609480"/>
            <a:ext cx="91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з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2895480" y="16765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0" y="5029200"/>
            <a:ext cx="93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ж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ож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љ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ји нам нису 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36440" y="2133720"/>
            <a:ext cx="900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ефицијен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а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аг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2O5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3"/>
              <p:cNvSpPr txBox="1"/>
              <p:nvPr/>
            </p:nvSpPr>
            <p:spPr>
              <a:xfrm>
                <a:off x="2666880" y="4419720"/>
                <a:ext cx="2438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ехиометрија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Y  +   A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D  + Z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Z   +  A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3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 +Y  +  A  + Z  + A = Y  +  D  + Z + 3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2A   + B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3C  +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457200" y="4495680"/>
            <a:ext cx="83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а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ож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перимент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он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5334120" y="1447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оцес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тављ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јединачних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тупњ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ханизам реакције и одлучујући ступа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лучујући ступањ је ступањ који одређује укупну брзину хемијског проц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неком механизму који има два ступња који следе један за другим, у коме је први спор а други брз, укупну брзину че одређивати први ступањ, који има мању константу брз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неком механизму у коме се реакције одвијају истовремено паралелно одлучујући ступањ је онај који је најбржи, који има највећу константу брз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4" descr="AN00757_"/>
          <p:cNvPicPr/>
          <p:nvPr/>
        </p:nvPicPr>
        <p:blipFill>
          <a:blip r:embed="rId1"/>
          <a:stretch/>
        </p:blipFill>
        <p:spPr>
          <a:xfrm>
            <a:off x="6937200" y="6010200"/>
            <a:ext cx="167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1219320" y="27432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НСТАНТА БРЗИНЕ ЗАВИСНОСТ БРЗИНЕ РЕАКЦИЈЕ ОД ТЕМПЕРАТУ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ецифи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ич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1447920" y="3124080"/>
                <a:ext cx="160020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4724280" y="31240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Text Box 7"/>
          <p:cNvSpPr/>
          <p:nvPr/>
        </p:nvSpPr>
        <p:spPr>
          <a:xfrm>
            <a:off x="1773360" y="0"/>
            <a:ext cx="56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0" y="464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менз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480060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2"/>
              <p:cNvSpPr txBox="1"/>
              <p:nvPr/>
            </p:nvSpPr>
            <p:spPr>
              <a:xfrm>
                <a:off x="5181480" y="5410080"/>
                <a:ext cx="3355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3"/>
              <p:cNvSpPr txBox="1"/>
              <p:nvPr/>
            </p:nvSpPr>
            <p:spPr>
              <a:xfrm>
                <a:off x="1219320" y="5519880"/>
                <a:ext cx="25146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7" name="Rectangle 13"/>
          <p:cNvSpPr/>
          <p:nvPr/>
        </p:nvSpPr>
        <p:spPr>
          <a:xfrm>
            <a:off x="457200" y="2438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 =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sr-C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1638000" y="190512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7"/>
          <p:cNvSpPr/>
          <p:nvPr/>
        </p:nvSpPr>
        <p:spPr>
          <a:xfrm>
            <a:off x="1907640" y="228600"/>
            <a:ext cx="52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228600" y="10666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р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ж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енијус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5"/>
              <p:cNvSpPr txBox="1"/>
              <p:nvPr/>
            </p:nvSpPr>
            <p:spPr>
              <a:xfrm>
                <a:off x="2919240" y="2540160"/>
                <a:ext cx="25416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Text Box 8"/>
          <p:cNvSpPr/>
          <p:nvPr/>
        </p:nvSpPr>
        <p:spPr>
          <a:xfrm>
            <a:off x="533520" y="4267080"/>
            <a:ext cx="7924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енијусо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кспоненциј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оба параметра су карактеристична за реакцију 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3808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7"/>
              <p:cNvSpPr txBox="1"/>
              <p:nvPr/>
            </p:nvSpPr>
            <p:spPr>
              <a:xfrm>
                <a:off x="3525840" y="20520"/>
                <a:ext cx="2092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5" name="Text Box 9"/>
          <p:cNvSpPr/>
          <p:nvPr/>
        </p:nvSpPr>
        <p:spPr>
          <a:xfrm>
            <a:off x="228600" y="259092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брзине за разлаг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м температура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5947920" y="24382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ција првог 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Chart 11" descr=""/>
          <p:cNvPicPr/>
          <p:nvPr/>
        </p:nvPicPr>
        <p:blipFill>
          <a:blip r:embed="rId1"/>
          <a:stretch/>
        </p:blipFill>
        <p:spPr>
          <a:xfrm>
            <a:off x="4572000" y="3852720"/>
            <a:ext cx="4572000" cy="30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609480" y="3886200"/>
          <a:ext cx="3048120" cy="2712960"/>
        </p:xfrm>
        <a:graphic>
          <a:graphicData uri="http://schemas.openxmlformats.org/drawingml/2006/table">
            <a:tbl>
              <a:tblPr/>
              <a:tblGrid>
                <a:gridCol w="1063800"/>
                <a:gridCol w="1984320"/>
              </a:tblGrid>
              <a:tr h="51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x 10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Object 13"/>
              <p:cNvSpPr txBox="1"/>
              <p:nvPr/>
            </p:nvSpPr>
            <p:spPr>
              <a:xfrm>
                <a:off x="5943600" y="3048120"/>
                <a:ext cx="2438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Object 7"/>
              <p:cNvSpPr txBox="1"/>
              <p:nvPr/>
            </p:nvSpPr>
            <p:spPr>
              <a:xfrm>
                <a:off x="3041640" y="295200"/>
                <a:ext cx="20937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8"/>
              <p:cNvSpPr txBox="1"/>
              <p:nvPr/>
            </p:nvSpPr>
            <p:spPr>
              <a:xfrm>
                <a:off x="704880" y="2286000"/>
                <a:ext cx="3085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 Box 14"/>
          <p:cNvSpPr/>
          <p:nvPr/>
        </p:nvSpPr>
        <p:spPr>
          <a:xfrm>
            <a:off x="0" y="1371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прикаж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n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T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ће се пр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а чији је одсеч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ln 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иб ће 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E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0"/>
          <p:cNvSpPr/>
          <p:nvPr/>
        </p:nvSpPr>
        <p:spPr>
          <a:xfrm>
            <a:off x="389880" y="91440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енијусова једн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Chart 10" descr=""/>
          <p:cNvPicPr/>
          <p:nvPr/>
        </p:nvPicPr>
        <p:blipFill>
          <a:blip r:embed="rId1"/>
          <a:stretch/>
        </p:blipFill>
        <p:spPr>
          <a:xfrm>
            <a:off x="4035600" y="3809880"/>
            <a:ext cx="510840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"/>
          <p:cNvGraphicFramePr/>
          <p:nvPr/>
        </p:nvGraphicFramePr>
        <p:xfrm>
          <a:off x="304920" y="3809880"/>
          <a:ext cx="3429000" cy="2560680"/>
        </p:xfrm>
        <a:graphic>
          <a:graphicData uri="http://schemas.openxmlformats.org/drawingml/2006/table">
            <a:tbl>
              <a:tblPr/>
              <a:tblGrid>
                <a:gridCol w="1576440"/>
                <a:gridCol w="185256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6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9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,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3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16" name="Object 8"/>
              <p:cNvSpPr txBox="1"/>
              <p:nvPr/>
            </p:nvSpPr>
            <p:spPr>
              <a:xfrm>
                <a:off x="7381800" y="2971800"/>
                <a:ext cx="1773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16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TextBox 10"/>
          <p:cNvSpPr/>
          <p:nvPr/>
        </p:nvSpPr>
        <p:spPr>
          <a:xfrm>
            <a:off x="6100560" y="19051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ција првог 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3"/>
              <p:cNvSpPr txBox="1"/>
              <p:nvPr/>
            </p:nvSpPr>
            <p:spPr>
              <a:xfrm>
                <a:off x="6095880" y="2286000"/>
                <a:ext cx="2438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838080" y="34308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д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86832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Еластичан судар</a:t>
            </a:r>
            <a:r>
              <a:rPr b="0" lang="sl-SI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олази до размене кинетичке енергије између честица које учествују у судару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купна кинетичка енергија у систему се не ме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 долази до промене унутрашње енергији молекула, молекул се хемијски не ме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-15840" y="3886200"/>
            <a:ext cx="9159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Нееластичан судар</a:t>
            </a:r>
            <a:r>
              <a:rPr b="0" lang="sl-SI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о кинетичке енергије унет у судар се претвара у унутрашњу енергију молекула која се расподељује на унутрашња кретања унутар молекула, ротацију, вибрацију веза у молекулу, или промену електронских стања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1. Теорија суд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Да би се хемијска реакција догодила, реактанти морају да доживе успешан реакциони суда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Успешан судар има две компонент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естице се морају сударити при одговарајућој међусобној оријентацији- у којој је могуће да се формира нова веза између одговарајућих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естице морају у судар унети довољну количину укупне енерг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Теорија прелазног 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току хемијске реакције, реактанти се не трансформишу у продукте трену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нак производа је континуални процес раскидања и формирања хемијских в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току успешног судара у коме сударни пар има довољну енергију, долази до формирања прелазних парцијалних 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формирана врста се назива активирани комплекс а такво стање прелазно стање хемијске трансформ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тивирани комплекс је врста богата енергијом која живи врло кратко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ергија активације је енергија која је потребна да се формира прелазно стање, односно структура активираног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2" name="Straight Arrow Connector 21"/>
          <p:cNvCxnSpPr/>
          <p:nvPr/>
        </p:nvCxnSpPr>
        <p:spPr>
          <a:xfrm>
            <a:off x="1601280" y="6694200"/>
            <a:ext cx="4496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Straight Arrow Connector 23"/>
          <p:cNvCxnSpPr/>
          <p:nvPr/>
        </p:nvCxnSpPr>
        <p:spPr>
          <a:xfrm flipV="1">
            <a:off x="1601280" y="2136240"/>
            <a:ext cx="1080" cy="457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Straight Connector 27"/>
          <p:cNvSpPr/>
          <p:nvPr/>
        </p:nvSpPr>
        <p:spPr>
          <a:xfrm>
            <a:off x="1292400" y="5537160"/>
            <a:ext cx="15951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8"/>
          <p:cNvSpPr/>
          <p:nvPr/>
        </p:nvSpPr>
        <p:spPr>
          <a:xfrm>
            <a:off x="4313160" y="6515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0" descr=""/>
          <p:cNvPicPr/>
          <p:nvPr/>
        </p:nvPicPr>
        <p:blipFill>
          <a:blip r:embed="rId1"/>
          <a:stretch/>
        </p:blipFill>
        <p:spPr>
          <a:xfrm>
            <a:off x="-42840" y="2212920"/>
            <a:ext cx="1652400" cy="346860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42"/>
          <p:cNvSpPr/>
          <p:nvPr/>
        </p:nvSpPr>
        <p:spPr>
          <a:xfrm>
            <a:off x="1487520" y="3662280"/>
            <a:ext cx="285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4"/>
          <p:cNvSpPr/>
          <p:nvPr/>
        </p:nvSpPr>
        <p:spPr>
          <a:xfrm>
            <a:off x="1601640" y="3659040"/>
            <a:ext cx="3321360" cy="2856240"/>
          </a:xfrm>
          <a:custGeom>
            <a:avLst/>
            <a:gdLst/>
            <a:ahLst/>
            <a:rect l="l" t="t" r="r" b="b"/>
            <a:pathLst>
              <a:path w="3320143" h="2854652">
                <a:moveTo>
                  <a:pt x="0" y="1873703"/>
                </a:moveTo>
                <a:cubicBezTo>
                  <a:pt x="188685" y="1900010"/>
                  <a:pt x="377371" y="1926317"/>
                  <a:pt x="522514" y="1884589"/>
                </a:cubicBezTo>
                <a:cubicBezTo>
                  <a:pt x="667657" y="1842861"/>
                  <a:pt x="758371" y="1893661"/>
                  <a:pt x="870857" y="1623332"/>
                </a:cubicBezTo>
                <a:cubicBezTo>
                  <a:pt x="983343" y="1353003"/>
                  <a:pt x="1099458" y="529318"/>
                  <a:pt x="1197429" y="262618"/>
                </a:cubicBezTo>
                <a:cubicBezTo>
                  <a:pt x="1295401" y="-4082"/>
                  <a:pt x="1366158" y="-31296"/>
                  <a:pt x="1458686" y="23132"/>
                </a:cubicBezTo>
                <a:cubicBezTo>
                  <a:pt x="1551214" y="77560"/>
                  <a:pt x="1594757" y="173718"/>
                  <a:pt x="1752600" y="589189"/>
                </a:cubicBezTo>
                <a:cubicBezTo>
                  <a:pt x="1910443" y="1004660"/>
                  <a:pt x="2144486" y="2140403"/>
                  <a:pt x="2405743" y="2515960"/>
                </a:cubicBezTo>
                <a:cubicBezTo>
                  <a:pt x="2667000" y="2891517"/>
                  <a:pt x="2993571" y="2867024"/>
                  <a:pt x="3320143" y="284253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092320" y="304812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354920" y="599112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107000" y="5543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0"/>
          <p:cNvSpPr/>
          <p:nvPr/>
        </p:nvSpPr>
        <p:spPr>
          <a:xfrm flipH="1">
            <a:off x="2089080" y="6515280"/>
            <a:ext cx="22557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53"/>
          <p:cNvCxnSpPr/>
          <p:nvPr/>
        </p:nvCxnSpPr>
        <p:spPr>
          <a:xfrm>
            <a:off x="2690280" y="5536800"/>
            <a:ext cx="1080" cy="978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Text Box 24"/>
          <p:cNvSpPr/>
          <p:nvPr/>
        </p:nvSpPr>
        <p:spPr>
          <a:xfrm>
            <a:off x="2552760" y="5900760"/>
            <a:ext cx="48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-437760" y="144360"/>
            <a:ext cx="28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58"/>
          <p:cNvCxnSpPr/>
          <p:nvPr/>
        </p:nvCxnSpPr>
        <p:spPr>
          <a:xfrm>
            <a:off x="2079360" y="3658680"/>
            <a:ext cx="1080" cy="1878840"/>
          </a:xfrm>
          <a:prstGeom prst="straightConnector1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37" name="Text Box 23"/>
          <p:cNvSpPr/>
          <p:nvPr/>
        </p:nvSpPr>
        <p:spPr>
          <a:xfrm>
            <a:off x="2012040" y="4238640"/>
            <a:ext cx="4060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0"/>
          <p:cNvSpPr/>
          <p:nvPr/>
        </p:nvSpPr>
        <p:spPr>
          <a:xfrm>
            <a:off x="1752480" y="1608120"/>
            <a:ext cx="754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мо мали део молекула има енергију довољну да може да награди реакциони комплекс структуру под називом „АКТИВИРАНИ КОМПЛЕКС“ 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формис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у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1"/>
          <p:cNvSpPr/>
          <p:nvPr/>
        </p:nvSpPr>
        <p:spPr>
          <a:xfrm>
            <a:off x="2427120" y="38160"/>
            <a:ext cx="65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одигравање реакције је потребно да молекули реактаната у судар унесу енергију која је већа од енергије која се назива енергија актив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тенцијалн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533520" y="914400"/>
            <a:ext cx="3592080" cy="2340360"/>
            <a:chOff x="533520" y="914400"/>
            <a:chExt cx="3592080" cy="2340360"/>
          </a:xfrm>
        </p:grpSpPr>
        <p:grpSp>
          <p:nvGrpSpPr>
            <p:cNvPr id="142" name="Group 7"/>
            <p:cNvGrpSpPr/>
            <p:nvPr/>
          </p:nvGrpSpPr>
          <p:grpSpPr>
            <a:xfrm>
              <a:off x="533520" y="914400"/>
              <a:ext cx="3512160" cy="2340360"/>
              <a:chOff x="533520" y="914400"/>
              <a:chExt cx="3512160" cy="2340360"/>
            </a:xfrm>
          </p:grpSpPr>
          <p:sp>
            <p:nvSpPr>
              <p:cNvPr id="143" name="Line 8"/>
              <p:cNvSpPr/>
              <p:nvPr/>
            </p:nvSpPr>
            <p:spPr>
              <a:xfrm>
                <a:off x="543960" y="914400"/>
                <a:ext cx="0" cy="23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 flipH="1" flipV="1">
                <a:off x="533520" y="3246120"/>
                <a:ext cx="3512160" cy="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5" name="Object 10"/>
            <p:cNvGraphicFramePr/>
            <p:nvPr/>
          </p:nvGraphicFramePr>
          <p:xfrm>
            <a:off x="533520" y="989640"/>
            <a:ext cx="3592080" cy="222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89640"/>
                      <a:ext cx="3592080" cy="22258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147" name="Group 11"/>
          <p:cNvGrpSpPr/>
          <p:nvPr/>
        </p:nvGrpSpPr>
        <p:grpSpPr>
          <a:xfrm>
            <a:off x="612720" y="4078440"/>
            <a:ext cx="3685680" cy="2617920"/>
            <a:chOff x="612720" y="4078440"/>
            <a:chExt cx="3685680" cy="2617920"/>
          </a:xfrm>
        </p:grpSpPr>
        <p:grpSp>
          <p:nvGrpSpPr>
            <p:cNvPr id="148" name="Group 12"/>
            <p:cNvGrpSpPr/>
            <p:nvPr/>
          </p:nvGrpSpPr>
          <p:grpSpPr>
            <a:xfrm>
              <a:off x="612720" y="4078440"/>
              <a:ext cx="3685680" cy="2617920"/>
              <a:chOff x="612720" y="4078440"/>
              <a:chExt cx="3685680" cy="2617920"/>
            </a:xfrm>
          </p:grpSpPr>
          <p:sp>
            <p:nvSpPr>
              <p:cNvPr id="149" name="Line 13"/>
              <p:cNvSpPr/>
              <p:nvPr/>
            </p:nvSpPr>
            <p:spPr>
              <a:xfrm>
                <a:off x="623880" y="4078440"/>
                <a:ext cx="0" cy="260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 flipH="1" flipV="1">
                <a:off x="612720" y="6686640"/>
                <a:ext cx="3685680" cy="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1" name="Object 15"/>
            <p:cNvGraphicFramePr/>
            <p:nvPr/>
          </p:nvGraphicFramePr>
          <p:xfrm>
            <a:off x="734760" y="4231440"/>
            <a:ext cx="3441600" cy="227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4760" y="4231440"/>
                      <a:ext cx="3441600" cy="2272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3" name="Rectangle 16"/>
          <p:cNvSpPr/>
          <p:nvPr/>
        </p:nvSpPr>
        <p:spPr>
          <a:xfrm>
            <a:off x="4480560" y="1015920"/>
            <a:ext cx="384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Егзотермна</a:t>
            </a:r>
            <a:r>
              <a:rPr b="0" lang="sr-Latn-CS" sz="2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4473360" y="6064200"/>
            <a:ext cx="394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Ендотермна</a:t>
            </a:r>
            <a:r>
              <a:rPr b="0" lang="sr-Latn-CS" sz="2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12952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1075680" y="13716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373400" y="236232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971160" y="46483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151640" y="51055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 flipH="1">
            <a:off x="11430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25909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1371600" y="6400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098360" y="3352680"/>
            <a:ext cx="2103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=E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93000" y="63244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540720" y="1981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3668760" y="27432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2754360" y="533412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040280" y="556272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35"/>
          <p:cNvCxnSpPr/>
          <p:nvPr/>
        </p:nvCxnSpPr>
        <p:spPr>
          <a:xfrm flipH="1">
            <a:off x="1142640" y="1142640"/>
            <a:ext cx="2160" cy="84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Straight Connector 37"/>
          <p:cNvSpPr/>
          <p:nvPr/>
        </p:nvSpPr>
        <p:spPr>
          <a:xfrm>
            <a:off x="990720" y="1143000"/>
            <a:ext cx="35812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40"/>
          <p:cNvCxnSpPr/>
          <p:nvPr/>
        </p:nvCxnSpPr>
        <p:spPr>
          <a:xfrm flipH="1">
            <a:off x="3655800" y="1144440"/>
            <a:ext cx="3600" cy="198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 Box 23"/>
          <p:cNvSpPr/>
          <p:nvPr/>
        </p:nvSpPr>
        <p:spPr>
          <a:xfrm>
            <a:off x="3590280" y="1828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1"/>
          <p:cNvCxnSpPr/>
          <p:nvPr/>
        </p:nvCxnSpPr>
        <p:spPr>
          <a:xfrm flipH="1">
            <a:off x="1445400" y="2057400"/>
            <a:ext cx="2520" cy="106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Straight Arrow Connector 54"/>
          <p:cNvCxnSpPr/>
          <p:nvPr/>
        </p:nvCxnSpPr>
        <p:spPr>
          <a:xfrm flipH="1">
            <a:off x="3960000" y="5335200"/>
            <a:ext cx="3960" cy="1067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Straight Arrow Connector 56"/>
          <p:cNvCxnSpPr>
            <a:stCxn id="161" idx="0"/>
          </p:cNvCxnSpPr>
          <p:nvPr/>
        </p:nvCxnSpPr>
        <p:spPr>
          <a:xfrm>
            <a:off x="3959640" y="4421160"/>
            <a:ext cx="3960" cy="9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Straight Arrow Connector 58"/>
          <p:cNvCxnSpPr/>
          <p:nvPr/>
        </p:nvCxnSpPr>
        <p:spPr>
          <a:xfrm>
            <a:off x="1143000" y="4343040"/>
            <a:ext cx="2160" cy="198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Text Box 24"/>
          <p:cNvSpPr/>
          <p:nvPr/>
        </p:nvSpPr>
        <p:spPr>
          <a:xfrm>
            <a:off x="990720" y="728640"/>
            <a:ext cx="243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аз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596960" y="3943440"/>
            <a:ext cx="2438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аз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45277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ементарна реакција је она у којој настаје један активирани комп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а елементарна реакција има карактеристичну енергију актив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ментарна реакција представња хемијску промену на елементарном молекулском нивоу где долази до раскидања или формирања хемијских 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4"/>
          <p:cNvSpPr/>
          <p:nvPr/>
        </p:nvSpPr>
        <p:spPr>
          <a:xfrm>
            <a:off x="4141800" y="1015920"/>
            <a:ext cx="488880" cy="552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eft Arrow 41"/>
          <p:cNvSpPr/>
          <p:nvPr/>
        </p:nvSpPr>
        <p:spPr>
          <a:xfrm>
            <a:off x="4172040" y="6093000"/>
            <a:ext cx="488880" cy="552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0" y="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Молекуларност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о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Мономолекулск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578" t="27250" r="1173" b="35834"/>
          <a:stretch/>
        </p:blipFill>
        <p:spPr>
          <a:xfrm>
            <a:off x="838080" y="1838160"/>
            <a:ext cx="5867640" cy="1652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61200" y="3505320"/>
            <a:ext cx="7387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Бимолекулск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rcRect l="0" t="34270" r="0" b="36774"/>
          <a:stretch/>
        </p:blipFill>
        <p:spPr>
          <a:xfrm>
            <a:off x="762120" y="4191120"/>
            <a:ext cx="6905520" cy="1498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1242720" y="6019920"/>
            <a:ext cx="26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39040" y="5943600"/>
            <a:ext cx="32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8"/>
          <p:cNvSpPr/>
          <p:nvPr/>
        </p:nvSpPr>
        <p:spPr>
          <a:xfrm>
            <a:off x="304920" y="5867280"/>
            <a:ext cx="83055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3:22:26Z</dcterms:created>
  <dc:creator>korisnik</dc:creator>
  <dc:description/>
  <dc:language>en-US</dc:language>
  <cp:lastModifiedBy>Snezana Jovanovic</cp:lastModifiedBy>
  <dcterms:modified xsi:type="dcterms:W3CDTF">2023-12-07T16:18:58Z</dcterms:modified>
  <cp:revision>289</cp:revision>
  <dc:subject/>
  <dc:title>Slide 1</dc:title>
</cp:coreProperties>
</file>